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8D6-670B-49C0-B5A0-0F491D18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888-C0CE-48F7-8A83-05213511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A2C7-2B22-4ED8-BE91-73AB090E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0A9-4766-4F9C-AEFF-AFD1B377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10C-768C-4384-96CB-D4ED86B8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467-3F20-41CB-9922-0AAF3780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12D-E9B2-4E86-9D28-DC74F0C6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EB3-1F6F-47A1-B60B-20AFEE14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58C-3B35-47D2-804B-9D97CA87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CA0-B99A-48DA-88CC-1CC5CD53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854-AEE7-44A4-B661-D2C87167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6E9-0533-4BCF-92FE-9A7A433C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E382-A9FA-4F9C-A4EE-C3E529EEB7B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4 Strážny, volaj z plnej si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ážny, volaj z plnej sil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prestávaj var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ľudia uveril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im Pán chce spásu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ážny, volaj z plnej sil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to každý poč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nes ľuďom odkaz milý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žiš naša spás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dolím, cez vrchy strá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naž sa tú zvesť zvučne ni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siluj sa odhodla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Ježišovi všetkých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ážny, volaj z plnej sil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to každý poč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nes ľuďom odkaz milý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žiš naša spás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Pánovi pozývaj stál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iednych, hriechom zranený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nemu veď aj deti malé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ápených a znaven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ážny, volaj z plnej sil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to každý poč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nes ľuďom odkaz milý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žiš naša spás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ôležitú správu hlás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to čuje celý svet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je naša spás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už skoro príde spä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ážny, volaj z plnej sil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to každý poč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nes ľuďom odkaz milý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žiš naša spása j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2:16:37Z</dcterms:modified>
  <cp:revision>37</cp:revision>
  <dc:subject/>
  <dc:title>Je veľký náš Pán, on slávy je Kráľ Nech do všetkých strán  spev vrúcnych znie chvál.</dc:title>
</cp:coreProperties>
</file>